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A35-CCA2-4E88-8F7C-9A8BB127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123-A5D3-4628-BF06-8ECFDB38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65E-CBD8-4A4D-B91E-F25F737E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E96-29E4-4D2D-BC2C-5AF4DA63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5F2-FBA7-4156-B8BE-244EEDD2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C6B-0713-4B01-8DCB-A00EABB6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272-782E-4A3E-BAA6-393E6880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D70-3535-4B4E-A286-9C0A6712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FD0-4F2B-45CD-82F9-F2CAF46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29A-5C3E-454F-88B6-21019324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8FF-7375-4C45-8F0F-1EB66DDB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8ED-7D9F-4C53-9294-3C69E879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08E1-7E27-4162-9081-671364D9C92F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7%2002%2014%20Thorupstrand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42" name="Tekstboks 3"/>
          <p:cNvSpPr/>
          <p:nvPr/>
        </p:nvSpPr>
        <p:spPr>
          <a:xfrm>
            <a:off x="55440" y="1125360"/>
            <a:ext cx="630864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FLA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rth Jutland - 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ved June 2008 and work started August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6 project applications, 42 approved 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dget per year 375.000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rs Hedegaard - project coordinator    -     lah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@frederikshavn.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illede 1387" descr="FiskeriLAG NORD 001.jpg"/>
          <p:cNvPicPr/>
          <p:nvPr/>
        </p:nvPicPr>
        <p:blipFill>
          <a:blip r:embed="rId2"/>
          <a:stretch/>
        </p:blipFill>
        <p:spPr>
          <a:xfrm>
            <a:off x="6516720" y="3095640"/>
            <a:ext cx="2627280" cy="1701720"/>
          </a:xfrm>
          <a:prstGeom prst="rect">
            <a:avLst/>
          </a:prstGeom>
          <a:ln w="0">
            <a:noFill/>
          </a:ln>
        </p:spPr>
      </p:pic>
      <p:pic>
        <p:nvPicPr>
          <p:cNvPr id="44" name="Billede 1390" descr="Fuld billede.JPG"/>
          <p:cNvPicPr/>
          <p:nvPr/>
        </p:nvPicPr>
        <p:blipFill>
          <a:blip r:embed="rId3"/>
          <a:stretch/>
        </p:blipFill>
        <p:spPr>
          <a:xfrm>
            <a:off x="6492960" y="4869000"/>
            <a:ext cx="2651040" cy="198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Fiskeriudvikl m logo.jpg"/>
          <p:cNvPicPr/>
          <p:nvPr/>
        </p:nvPicPr>
        <p:blipFill>
          <a:blip r:embed="rId4"/>
          <a:stretch/>
        </p:blipFill>
        <p:spPr>
          <a:xfrm>
            <a:off x="6516720" y="1125360"/>
            <a:ext cx="2627280" cy="1970280"/>
          </a:xfrm>
          <a:prstGeom prst="rect">
            <a:avLst/>
          </a:prstGeom>
          <a:ln w="0">
            <a:noFill/>
          </a:ln>
        </p:spPr>
      </p:pic>
      <p:sp>
        <p:nvSpPr>
          <p:cNvPr id="46" name="Tekstboks 1394"/>
          <p:cNvSpPr/>
          <p:nvPr/>
        </p:nvSpPr>
        <p:spPr>
          <a:xfrm>
            <a:off x="31680" y="2682720"/>
            <a:ext cx="3245040" cy="1555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1: Fishing culture/fishing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Efforts to make the fishing industry more       attractive also for young people</a:t>
            </a:r>
            <a:r>
              <a:rPr b="0" lang="da-DK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Developing new fishing forms and activities at harbors and coasts</a:t>
            </a:r>
            <a:r>
              <a:rPr b="0" lang="da-DK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Exposing the fishing culture and herit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kstboks 1395"/>
          <p:cNvSpPr/>
          <p:nvPr/>
        </p:nvSpPr>
        <p:spPr>
          <a:xfrm>
            <a:off x="34920" y="4724280"/>
            <a:ext cx="3241800" cy="182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: Tour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Developing fish related tourism in coastal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Exposing cultural herit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Developing authentic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ctivities stretching the tourist s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eestablishing fish landing places on the 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Exposing old boatbuilding tradi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boks 1396"/>
          <p:cNvSpPr/>
          <p:nvPr/>
        </p:nvSpPr>
        <p:spPr>
          <a:xfrm>
            <a:off x="3635280" y="2708280"/>
            <a:ext cx="2808360" cy="164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: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edevelop old trails to access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Establish activities in th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ctivities with protection of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romote active use of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kstboks 1397"/>
          <p:cNvSpPr/>
          <p:nvPr/>
        </p:nvSpPr>
        <p:spPr>
          <a:xfrm>
            <a:off x="3635280" y="4724280"/>
            <a:ext cx="2808360" cy="1828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ctivities that attracts establishing of public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New efforts to support social, cultural and educa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upporting networking on shore for fishers family members</a:t>
            </a:r>
            <a:r>
              <a:rPr b="0" lang="da-DK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ge forbindelse 1402"/>
          <p:cNvSpPr/>
          <p:nvPr/>
        </p:nvSpPr>
        <p:spPr>
          <a:xfrm>
            <a:off x="3419640" y="2492280"/>
            <a:ext cx="0" cy="424980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ge forbindelse 1403"/>
          <p:cNvSpPr/>
          <p:nvPr/>
        </p:nvSpPr>
        <p:spPr>
          <a:xfrm flipH="1">
            <a:off x="-360" y="4581360"/>
            <a:ext cx="6372360" cy="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boks 1407"/>
          <p:cNvSpPr/>
          <p:nvPr/>
        </p:nvSpPr>
        <p:spPr>
          <a:xfrm>
            <a:off x="2667600" y="4427640"/>
            <a:ext cx="1467000" cy="3682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FOCUS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Lige pilforbindelse 1409"/>
          <p:cNvCxnSpPr/>
          <p:nvPr/>
        </p:nvCxnSpPr>
        <p:spPr>
          <a:xfrm>
            <a:off x="4809960" y="1290600"/>
            <a:ext cx="2642400" cy="123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28:33Z</dcterms:created>
  <dc:creator>Lars Hedegaard</dc:creator>
  <dc:description/>
  <dc:language>en-US</dc:language>
  <cp:lastModifiedBy>SGS</cp:lastModifiedBy>
  <dcterms:modified xsi:type="dcterms:W3CDTF">2011-03-15T08:48:45Z</dcterms:modified>
  <cp:revision>9</cp:revision>
  <dc:subject/>
  <dc:title>Dias nummer 1</dc:title>
</cp:coreProperties>
</file>