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920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4664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920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3A8FF-CC5E-4F51-82A9-F5D6A4332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A2B45-63F3-4E13-A551-82485A9AD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FE204-F534-496D-9F65-C6F4D968D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C9CA5-5DC5-46B4-BD8F-771FB16AF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078DC-14F8-469A-8865-E70271C7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1D089-0771-4433-A923-E19666EAB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8DBC32-E98D-4737-921D-1456D5374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124D94-75C4-4437-AD5C-8BE31C65E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A7DA0-B386-48FE-923E-5596AC101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8894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7840" y="3854880"/>
            <a:ext cx="8894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7840" y="38548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5800" y="38548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5280" y="9964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2720" y="9964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7840" y="38548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5280" y="38548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2720" y="38548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7840" y="996480"/>
            <a:ext cx="88948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88948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28800" y="87480"/>
            <a:ext cx="81439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7840" y="38548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7840" y="996480"/>
            <a:ext cx="88948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5800" y="38548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7840" y="3854880"/>
            <a:ext cx="8894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8894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7840" y="3854880"/>
            <a:ext cx="8894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7840" y="38548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5800" y="38548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5280" y="9964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2720" y="9964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7840" y="38548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5280" y="38548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2720" y="3854880"/>
            <a:ext cx="28638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88948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8800" y="87480"/>
            <a:ext cx="81439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7840" y="38548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5800" y="38548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5800" y="996480"/>
            <a:ext cx="4340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7840" y="3854880"/>
            <a:ext cx="8894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farnet.eu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 flipV="1">
            <a:off x="981000" y="736200"/>
            <a:ext cx="8163000" cy="9720"/>
          </a:xfrm>
          <a:prstGeom prst="line">
            <a:avLst/>
          </a:prstGeom>
          <a:ln w="28440">
            <a:solidFill>
              <a:srgbClr val="014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537240"/>
            <a:ext cx="9144000" cy="320760"/>
          </a:xfrm>
          <a:prstGeom prst="rect">
            <a:avLst/>
          </a:prstGeom>
          <a:solidFill>
            <a:srgbClr val="82a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466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7840" y="996480"/>
            <a:ext cx="88948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1" marL="525600" indent="-252720">
              <a:lnSpc>
                <a:spcPct val="90000"/>
              </a:lnSpc>
              <a:spcBef>
                <a:spcPts val="601"/>
              </a:spcBef>
              <a:buClr>
                <a:srgbClr val="2969b5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2" marL="801720" indent="-228600">
              <a:lnSpc>
                <a:spcPct val="90000"/>
              </a:lnSpc>
              <a:spcBef>
                <a:spcPts val="601"/>
              </a:spcBef>
              <a:buClr>
                <a:srgbClr val="68b1fb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3" marL="1077840" indent="-177840">
              <a:lnSpc>
                <a:spcPct val="90000"/>
              </a:lnSpc>
              <a:spcBef>
                <a:spcPts val="601"/>
              </a:spcBef>
              <a:buClr>
                <a:srgbClr val="68b1f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4" marL="1347840" indent="-187200">
              <a:lnSpc>
                <a:spcPct val="90000"/>
              </a:lnSpc>
              <a:spcBef>
                <a:spcPts val="601"/>
              </a:spcBef>
              <a:buClr>
                <a:srgbClr val="68b1fb"/>
              </a:buClr>
              <a:buSzPct val="80000"/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5" marL="13478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6" marL="13478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pic>
        <p:nvPicPr>
          <p:cNvPr id="4" name="Picture 8" descr="C:\Users\yves\Documents\Liberal\AEIDL\DEVNET\Website-Tipik\FARNET_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1400"/>
            <a:ext cx="905040" cy="90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63440" y="6536880"/>
            <a:ext cx="82980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ctr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Arial"/>
                <a:ea typeface="Verdana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Verdana"/>
              </a:rPr>
              <a:t>FARNET Template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Box 15"/>
          <p:cNvSpPr/>
          <p:nvPr/>
        </p:nvSpPr>
        <p:spPr>
          <a:xfrm>
            <a:off x="8516880" y="6567480"/>
            <a:ext cx="612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BC1-418E-4219-BB8B-ECA2A69B1247}" type="slidenum">
              <a:rPr b="1" lang="en-GB" sz="14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4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3152880"/>
            <a:ext cx="9144000" cy="3705120"/>
          </a:xfrm>
          <a:prstGeom prst="rect">
            <a:avLst/>
          </a:prstGeom>
          <a:solidFill>
            <a:srgbClr val="82a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4664"/>
              </a:solidFill>
              <a:latin typeface="Verdana"/>
            </a:endParaRPr>
          </a:p>
        </p:txBody>
      </p:sp>
      <p:pic>
        <p:nvPicPr>
          <p:cNvPr id="44" name="Picture 2" descr="C:\Users\yves\Documents\Liberal\AEIDL\DEVNET\Website-Tipik\FARNET_03.jpg"/>
          <p:cNvPicPr/>
          <p:nvPr/>
        </p:nvPicPr>
        <p:blipFill>
          <a:blip r:embed="rId2"/>
          <a:stretch/>
        </p:blipFill>
        <p:spPr>
          <a:xfrm>
            <a:off x="1987560" y="685800"/>
            <a:ext cx="5108400" cy="1360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466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77840" y="996480"/>
            <a:ext cx="88948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1" marL="525600" indent="-252720">
              <a:lnSpc>
                <a:spcPct val="90000"/>
              </a:lnSpc>
              <a:spcBef>
                <a:spcPts val="601"/>
              </a:spcBef>
              <a:buClr>
                <a:srgbClr val="2969b5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2" marL="801720" indent="-228600">
              <a:lnSpc>
                <a:spcPct val="90000"/>
              </a:lnSpc>
              <a:spcBef>
                <a:spcPts val="601"/>
              </a:spcBef>
              <a:buClr>
                <a:srgbClr val="68b1fb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3" marL="1077840" indent="-177840">
              <a:lnSpc>
                <a:spcPct val="90000"/>
              </a:lnSpc>
              <a:spcBef>
                <a:spcPts val="601"/>
              </a:spcBef>
              <a:buClr>
                <a:srgbClr val="68b1f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4" marL="1347840" indent="-187200">
              <a:lnSpc>
                <a:spcPct val="90000"/>
              </a:lnSpc>
              <a:spcBef>
                <a:spcPts val="601"/>
              </a:spcBef>
              <a:buClr>
                <a:srgbClr val="68b1fb"/>
              </a:buClr>
              <a:buSzPct val="80000"/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5" marL="13478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lvl="6" marL="13478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531360" y="5572080"/>
            <a:ext cx="411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F17D-8D13-459C-A10C-5A052E9A3B3D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276360"/>
            <a:ext cx="81277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FLAGs ON THE MOVE: the second wave”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FARNET Seminar for FLAG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ofia 21-23 March 2010</a:t>
            </a:r>
            <a:endParaRPr b="1" lang="en-US" sz="20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6760" y="5575320"/>
            <a:ext cx="81914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4664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4489"/>
                </a:solidFill>
                <a:latin typeface="Verdana"/>
              </a:rPr>
              <a:t>Peter Ramsden</a:t>
            </a:r>
            <a:endParaRPr b="0" lang="en-US" sz="20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71680" y="4497480"/>
            <a:ext cx="7581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c1d22"/>
                </a:solidFill>
                <a:latin typeface="Verdana"/>
              </a:rPr>
              <a:t>Cultivating private sector involvement and investment</a:t>
            </a:r>
            <a:endParaRPr b="0" lang="en-US" sz="32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4664"/>
                </a:solidFill>
                <a:latin typeface="Verdana"/>
              </a:rPr>
              <a:t>Structure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" y="1364760"/>
            <a:ext cx="89298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489"/>
                </a:solidFill>
                <a:latin typeface="Arial"/>
              </a:rPr>
              <a:t>Introduction to aims and structure of workshop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489"/>
                </a:solidFill>
                <a:latin typeface="Arial"/>
              </a:rPr>
              <a:t>Presentation of participants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489"/>
                </a:solidFill>
                <a:latin typeface="Arial"/>
              </a:rPr>
              <a:t>A framework for encouraging private viable investment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489"/>
                </a:solidFill>
                <a:latin typeface="Arial"/>
              </a:rPr>
              <a:t>Case study: West Portugal, Cork 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489"/>
                </a:solidFill>
                <a:latin typeface="Arial"/>
              </a:rPr>
              <a:t>Comments Peter Ramsden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489"/>
                </a:solidFill>
                <a:latin typeface="Arial"/>
              </a:rPr>
              <a:t>Work in small groups and plenary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163440" y="6537240"/>
            <a:ext cx="8298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Verdana"/>
              </a:rPr>
              <a:t>FARNET Template presentation</a:t>
            </a:r>
            <a:endParaRPr b="0" lang="en-US" sz="16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4664"/>
                </a:solidFill>
                <a:latin typeface="Verdana"/>
              </a:rPr>
              <a:t>Encouraging private viable investment: a framework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7840" y="996480"/>
            <a:ext cx="88948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4489"/>
                </a:solidFill>
                <a:latin typeface="Arial"/>
              </a:rPr>
              <a:t>Art.45.4 of EFF: “the majority of operations shall be led by the private sector”.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4489"/>
                </a:solidFill>
                <a:latin typeface="Arial"/>
              </a:rPr>
              <a:t>Majority of operations (not half of the budget)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4489"/>
                </a:solidFill>
                <a:latin typeface="Arial"/>
              </a:rPr>
              <a:t>Private =  non public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4489"/>
                </a:solidFill>
                <a:latin typeface="Arial"/>
              </a:rPr>
              <a:t>Importance of linkages with strategy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4664"/>
                </a:solidFill>
                <a:latin typeface="Verdana"/>
              </a:rPr>
              <a:t>Establish the context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40" y="1098720"/>
            <a:ext cx="87883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4489"/>
                </a:solidFill>
                <a:latin typeface="Arial"/>
              </a:rPr>
              <a:t>Two extreme situations …</a:t>
            </a:r>
            <a:endParaRPr b="1" lang="en-US" sz="28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4489"/>
              </a:solidFill>
              <a:latin typeface="Arial"/>
            </a:endParaRPr>
          </a:p>
          <a:p>
            <a:pPr lvl="1" marL="525600" indent="-252720">
              <a:lnSpc>
                <a:spcPct val="90000"/>
              </a:lnSpc>
              <a:spcBef>
                <a:spcPts val="601"/>
              </a:spcBef>
              <a:buClr>
                <a:srgbClr val="2969b5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4489"/>
                </a:solidFill>
                <a:latin typeface="Arial"/>
              </a:rPr>
              <a:t>Chronic lack of entrepreneurs</a:t>
            </a:r>
            <a:endParaRPr b="0" lang="en-US" sz="2400" spc="-1" strike="noStrike">
              <a:solidFill>
                <a:srgbClr val="014489"/>
              </a:solidFill>
              <a:latin typeface="Arial"/>
            </a:endParaRPr>
          </a:p>
          <a:p>
            <a:pPr lvl="2" marL="801720" indent="-228600">
              <a:lnSpc>
                <a:spcPct val="90000"/>
              </a:lnSpc>
              <a:spcBef>
                <a:spcPts val="499"/>
              </a:spcBef>
              <a:buClr>
                <a:srgbClr val="68b1fb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4489"/>
                </a:solidFill>
                <a:latin typeface="Arial"/>
              </a:rPr>
              <a:t>Need for identifying main obstacles for the emergence of entrepreneurship</a:t>
            </a:r>
            <a:endParaRPr b="0" lang="en-US" sz="2000" spc="-1" strike="noStrike">
              <a:solidFill>
                <a:srgbClr val="014489"/>
              </a:solidFill>
              <a:latin typeface="Arial"/>
            </a:endParaRPr>
          </a:p>
          <a:p>
            <a:pPr lvl="2" marL="801720" indent="-228600">
              <a:lnSpc>
                <a:spcPct val="90000"/>
              </a:lnSpc>
              <a:spcBef>
                <a:spcPts val="499"/>
              </a:spcBef>
              <a:buClr>
                <a:srgbClr val="68b1fb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489"/>
              </a:solidFill>
              <a:latin typeface="Arial"/>
            </a:endParaRPr>
          </a:p>
          <a:p>
            <a:pPr lvl="1" marL="525600" indent="-252720">
              <a:lnSpc>
                <a:spcPct val="90000"/>
              </a:lnSpc>
              <a:spcBef>
                <a:spcPts val="601"/>
              </a:spcBef>
              <a:buClr>
                <a:srgbClr val="2969b5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4489"/>
                </a:solidFill>
                <a:latin typeface="Arial"/>
              </a:rPr>
              <a:t>Lack of interest from local entrepreneurs</a:t>
            </a:r>
            <a:endParaRPr b="0" lang="en-US" sz="2400" spc="-1" strike="noStrike">
              <a:solidFill>
                <a:srgbClr val="014489"/>
              </a:solidFill>
              <a:latin typeface="Arial"/>
            </a:endParaRPr>
          </a:p>
          <a:p>
            <a:pPr lvl="2" marL="801720" indent="-228600">
              <a:lnSpc>
                <a:spcPct val="90000"/>
              </a:lnSpc>
              <a:spcBef>
                <a:spcPts val="499"/>
              </a:spcBef>
              <a:buClr>
                <a:srgbClr val="68b1fb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4489"/>
                </a:solidFill>
                <a:latin typeface="Arial"/>
              </a:rPr>
              <a:t>Need for convincing local entrepreneurs of the value added of the approach</a:t>
            </a:r>
            <a:endParaRPr b="0" lang="en-US" sz="2000" spc="-1" strike="noStrike">
              <a:solidFill>
                <a:srgbClr val="014489"/>
              </a:solidFill>
              <a:latin typeface="Arial"/>
            </a:endParaRPr>
          </a:p>
          <a:p>
            <a:pPr lvl="2" marL="801720" indent="-228600">
              <a:lnSpc>
                <a:spcPct val="90000"/>
              </a:lnSpc>
              <a:spcBef>
                <a:spcPts val="499"/>
              </a:spcBef>
              <a:buClr>
                <a:srgbClr val="68b1fb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4489"/>
                </a:solidFill>
                <a:latin typeface="Arial"/>
              </a:rPr>
              <a:t>…</a:t>
            </a:r>
            <a:r>
              <a:rPr b="1" lang="en-GB" sz="2800" spc="-1" strike="noStrike">
                <a:solidFill>
                  <a:srgbClr val="014489"/>
                </a:solidFill>
                <a:latin typeface="Arial"/>
              </a:rPr>
              <a:t>.with many situations in between</a:t>
            </a:r>
            <a:endParaRPr b="1" lang="en-US" sz="2800" spc="-1" strike="noStrike">
              <a:solidFill>
                <a:srgbClr val="0144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4664"/>
                </a:solidFill>
                <a:latin typeface="Verdana"/>
              </a:rPr>
              <a:t>Main issues with encouraging private investement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9120" y="1098360"/>
            <a:ext cx="889488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Poor culture  of entrepreneurship locally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Lack of business skills and experience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Baseline conditions of the area (</a:t>
            </a:r>
            <a:r>
              <a:rPr b="1" lang="en-US" sz="2000" spc="-1" strike="noStrike">
                <a:solidFill>
                  <a:srgbClr val="014489"/>
                </a:solidFill>
                <a:latin typeface="Arial"/>
              </a:rPr>
              <a:t>accessibility, environment, social/public services, cultural heritage,…) </a:t>
            </a:r>
            <a:endParaRPr b="1" lang="en-US" sz="20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Lack of finance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Market access of local products, low profitability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Lack of interest from local entrepreneurs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Length of administrative process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4664"/>
                </a:solidFill>
                <a:latin typeface="Verdana"/>
              </a:rPr>
              <a:t>Main tools for encouraging viable private investment (I)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9120" y="1123920"/>
            <a:ext cx="8894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Information, communication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Policy for openness, friendliness, efficiency and accessibility of offices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Outreach community work, proactive attitude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Training courses for project promoters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Credit and guarantee facilities from banks, micro finance, support in financial engineering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c4664"/>
                </a:solidFill>
                <a:latin typeface="Verdana"/>
              </a:rPr>
              <a:t>Main tools for encouraging viable private investment (II)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9120" y="1149480"/>
            <a:ext cx="88948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Provision or access to business and technical support </a:t>
            </a:r>
            <a:r>
              <a:rPr b="1" lang="en-US" sz="2000" spc="-1" strike="noStrike">
                <a:solidFill>
                  <a:srgbClr val="014489"/>
                </a:solidFill>
                <a:latin typeface="Arial"/>
              </a:rPr>
              <a:t>(business advisors, contact with university or technological centres,…)</a:t>
            </a:r>
            <a:endParaRPr b="1" lang="en-US" sz="20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Flagship or anchor projects led by the FLAG itself. Use as a showcase in the area.</a:t>
            </a: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489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14489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489"/>
                </a:solidFill>
                <a:latin typeface="Arial"/>
              </a:rPr>
              <a:t>Administrative process streamlining </a:t>
            </a:r>
            <a:r>
              <a:rPr b="1" lang="en-US" sz="2000" spc="-1" strike="noStrike">
                <a:solidFill>
                  <a:srgbClr val="014489"/>
                </a:solidFill>
                <a:latin typeface="Arial"/>
              </a:rPr>
              <a:t>(planning of activities, proactive attitude towards deadlines, be realistic in timeframe) </a:t>
            </a:r>
            <a:endParaRPr b="1" lang="en-US" sz="2000" spc="-1" strike="noStrike">
              <a:solidFill>
                <a:srgbClr val="014489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4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800" y="87480"/>
            <a:ext cx="8143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8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c4664"/>
                </a:solidFill>
                <a:latin typeface="Verdana"/>
              </a:rPr>
              <a:t>Example of skills needed</a:t>
            </a:r>
            <a:endParaRPr b="1" lang="en-US" sz="2400" spc="-1" strike="noStrike">
              <a:solidFill>
                <a:srgbClr val="3c4664"/>
              </a:solidFill>
              <a:latin typeface="Verdana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163440" y="6537240"/>
            <a:ext cx="8298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Verdana"/>
              </a:rPr>
              <a:t>FARNET Template presentation</a:t>
            </a:r>
            <a:endParaRPr b="0" lang="en-US" sz="1600" spc="-1" strike="noStrike">
              <a:solidFill>
                <a:srgbClr val="3c4664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3040" y="1101600"/>
          <a:ext cx="8750520" cy="4146840"/>
        </p:xfrm>
        <a:graphic>
          <a:graphicData uri="http://schemas.openxmlformats.org/drawingml/2006/table">
            <a:tbl>
              <a:tblPr/>
              <a:tblGrid>
                <a:gridCol w="1803600"/>
                <a:gridCol w="3187800"/>
                <a:gridCol w="3759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kills needed</a:t>
                      </a:r>
                      <a:endParaRPr b="0" lang="en-US" sz="20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ype of job profile</a:t>
                      </a:r>
                      <a:endParaRPr b="0" lang="en-US" sz="20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23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Early stages of development</a:t>
                      </a:r>
                      <a:endParaRPr b="0" lang="en-US" sz="20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4e566b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general interpersonal skills, business oriented</a:t>
                      </a:r>
                      <a:endParaRPr b="0" lang="en-US" sz="18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4e566b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direct experience of the area or target group </a:t>
                      </a:r>
                      <a:endParaRPr b="0" lang="en-US" sz="18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4e566b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personal commitment to local development</a:t>
                      </a:r>
                      <a:endParaRPr b="0" lang="en-US" sz="18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4e566b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local grass-roots workers </a:t>
                      </a:r>
                      <a:r>
                        <a:rPr b="0" lang="en-US" sz="16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(information officers, animators, etc.);</a:t>
                      </a:r>
                      <a:endParaRPr b="0" lang="en-US" sz="16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4e566b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experienced generalists. with a vision and solid training, capable of orchestrating the entire system in a given area;</a:t>
                      </a:r>
                      <a:endParaRPr b="0" lang="en-US" sz="18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51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Later stages of development</a:t>
                      </a:r>
                      <a:endParaRPr b="0" lang="en-US" sz="20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4e566b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more technical and specific as projects mature.</a:t>
                      </a:r>
                      <a:endParaRPr b="0" lang="en-US" sz="18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4e566b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specialists, most often located outside the area (</a:t>
                      </a:r>
                      <a:r>
                        <a:rPr b="0" lang="en-US" sz="16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used whenever necessary to help resolve certain specific technical problems</a:t>
                      </a:r>
                      <a:r>
                        <a:rPr b="0" lang="en-US" sz="1800" spc="-1" strike="noStrike">
                          <a:solidFill>
                            <a:srgbClr val="4e566b"/>
                          </a:solidFill>
                          <a:latin typeface="Calibri"/>
                          <a:ea typeface="Calibri"/>
                        </a:rPr>
                        <a:t>).</a:t>
                      </a:r>
                      <a:endParaRPr b="0" lang="en-US" sz="1800" spc="-1" strike="noStrike">
                        <a:solidFill>
                          <a:srgbClr val="3c466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110" name="TextBox 6"/>
          <p:cNvSpPr/>
          <p:nvPr/>
        </p:nvSpPr>
        <p:spPr>
          <a:xfrm>
            <a:off x="228600" y="5334120"/>
            <a:ext cx="866124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14489"/>
                </a:solidFill>
                <a:latin typeface="Arial"/>
                <a:ea typeface="Arial"/>
              </a:rPr>
              <a:t>Rem:</a:t>
            </a:r>
            <a:r>
              <a:rPr b="0" i="1" lang="fr-BE" sz="2000" spc="-1" strike="noStrike">
                <a:solidFill>
                  <a:srgbClr val="014489"/>
                </a:solidFill>
                <a:latin typeface="Arial"/>
                <a:ea typeface="Arial"/>
              </a:rPr>
              <a:t>	</a:t>
            </a:r>
            <a:r>
              <a:rPr b="0" i="1" lang="fr-BE" sz="2000" spc="-1" strike="noStrike">
                <a:solidFill>
                  <a:srgbClr val="014489"/>
                </a:solidFill>
                <a:latin typeface="Arial"/>
                <a:ea typeface="Arial"/>
              </a:rPr>
              <a:t>FLAG budgets will often not allow for all skills to be found in house</a:t>
            </a:r>
            <a:endParaRPr b="0" lang="en-US" sz="2000" spc="-1" strike="noStrike">
              <a:solidFill>
                <a:srgbClr val="3c466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14489"/>
                </a:solidFill>
                <a:latin typeface="Arial"/>
                <a:ea typeface="Arial"/>
              </a:rPr>
              <a:t>	</a:t>
            </a:r>
            <a:r>
              <a:rPr b="0" i="1" lang="fr-BE" sz="2000" spc="-1" strike="noStrike">
                <a:solidFill>
                  <a:srgbClr val="014489"/>
                </a:solidFill>
                <a:latin typeface="Arial"/>
                <a:ea typeface="Arial"/>
              </a:rPr>
              <a:t>Importance of collaboration with other local support institutions </a:t>
            </a:r>
            <a:r>
              <a:rPr b="0" i="1" lang="fr-BE" sz="2000" spc="-1" strike="noStrike">
                <a:solidFill>
                  <a:srgbClr val="014489"/>
                </a:solidFill>
                <a:latin typeface="Arial"/>
                <a:ea typeface="Arial"/>
              </a:rPr>
              <a:t>	</a:t>
            </a:r>
            <a:r>
              <a:rPr b="0" i="1" lang="fr-BE" sz="2000" spc="-1" strike="noStrike">
                <a:solidFill>
                  <a:srgbClr val="014489"/>
                </a:solidFill>
                <a:latin typeface="Arial"/>
                <a:ea typeface="Arial"/>
              </a:rPr>
              <a:t>(chamber of commerce, trade boards, other EU funds, etc)</a:t>
            </a:r>
            <a:endParaRPr b="0" lang="en-US" sz="2000" spc="-1" strike="noStrike">
              <a:solidFill>
                <a:srgbClr val="3c46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ves</dc:creator>
  <dc:description/>
  <dc:language>en-US</dc:language>
  <cp:lastModifiedBy>peter</cp:lastModifiedBy>
  <cp:lastPrinted>2008-02-28T14:57:33Z</cp:lastPrinted>
  <dcterms:modified xsi:type="dcterms:W3CDTF">2011-03-16T07:17:12Z</dcterms:modified>
  <cp:revision>189</cp:revision>
  <dc:subject/>
  <dc:title>Slide 1</dc:title>
</cp:coreProperties>
</file>