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2A1-C109-488C-9974-75B8800B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98B-B1C3-4600-9CEA-54A65D11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A9C-871A-42BA-9B42-482DE219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B2C-0160-4F87-8E9A-995FA7AE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802-D356-40FD-8331-3D315DC6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5AA-7E5A-42C6-9C47-C2862E7D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A21-B16A-443C-BBA8-CFFFD0B7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204-5594-41C2-A305-EDB81050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DAA-4FB3-42D5-9BFF-EB111976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293-3190-4141-B23F-B2746A39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E8F-4829-4590-A9FC-AFD97680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6F2-D0BA-4DD4-9562-8B6E6D13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dce6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F2AB-71CA-400C-9084-D341021E5AFA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hyperlink" Target="mailto:monica@adepe.pt" TargetMode="External"/><Relationship Id="rId9" Type="http://schemas.openxmlformats.org/officeDocument/2006/relationships/hyperlink" Target="mailto:gac.oeste@adepe.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ikehys 7"/>
          <p:cNvSpPr/>
          <p:nvPr/>
        </p:nvSpPr>
        <p:spPr>
          <a:xfrm>
            <a:off x="0" y="58680"/>
            <a:ext cx="6300720" cy="15876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ffffff"/>
                </a:solidFill>
                <a:uFillTx/>
                <a:latin typeface="Calibri"/>
              </a:rPr>
              <a:t>FLAG OESTE,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APPROVED 15.07.2009; 1st Call: 01 Out 2010 to 31 Ma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Total budget: 2.905.696€; EFF: 23.344.696€ National: 560.558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Calibri"/>
              </a:rPr>
              <a:t>30 Projects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Mónica Chalabardo, Project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upo 21"/>
          <p:cNvGrpSpPr/>
          <p:nvPr/>
        </p:nvGrpSpPr>
        <p:grpSpPr>
          <a:xfrm>
            <a:off x="6084720" y="2852640"/>
            <a:ext cx="2980080" cy="3456000"/>
            <a:chOff x="6084720" y="2852640"/>
            <a:chExt cx="2980080" cy="3456000"/>
          </a:xfrm>
        </p:grpSpPr>
        <p:pic>
          <p:nvPicPr>
            <p:cNvPr id="43" name="Picture 4" descr="\\Server\Gacoeste\Administrativo\imagens\Nova imagem (16).bmp"/>
            <p:cNvPicPr/>
            <p:nvPr/>
          </p:nvPicPr>
          <p:blipFill>
            <a:blip r:embed="rId1"/>
            <a:stretch/>
          </p:blipFill>
          <p:spPr>
            <a:xfrm>
              <a:off x="7661880" y="3791520"/>
              <a:ext cx="1402920" cy="19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\\Server\Gacoeste\Administrativo\imagens\thumb.display[11].jpg"/>
            <p:cNvPicPr/>
            <p:nvPr/>
          </p:nvPicPr>
          <p:blipFill>
            <a:blip r:embed="rId2"/>
            <a:stretch/>
          </p:blipFill>
          <p:spPr>
            <a:xfrm>
              <a:off x="7685640" y="2852640"/>
              <a:ext cx="1313280" cy="18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8" descr=""/>
            <p:cNvPicPr/>
            <p:nvPr/>
          </p:nvPicPr>
          <p:blipFill>
            <a:blip r:embed="rId3"/>
            <a:stretch/>
          </p:blipFill>
          <p:spPr>
            <a:xfrm>
              <a:off x="6354360" y="3007440"/>
              <a:ext cx="1373040" cy="27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1" descr="\\Server\Gacoeste\Administrativo\imagens\Nova imagem (34).bmp"/>
            <p:cNvPicPr/>
            <p:nvPr/>
          </p:nvPicPr>
          <p:blipFill>
            <a:blip r:embed="rId4"/>
            <a:stretch/>
          </p:blipFill>
          <p:spPr>
            <a:xfrm>
              <a:off x="6084720" y="4364640"/>
              <a:ext cx="1715040" cy="19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2" descr="\\Server\Gacoeste\Administrativo\imagens\Nova imagem (18).bmp"/>
            <p:cNvPicPr/>
            <p:nvPr/>
          </p:nvPicPr>
          <p:blipFill>
            <a:blip r:embed="rId5"/>
            <a:stretch/>
          </p:blipFill>
          <p:spPr>
            <a:xfrm>
              <a:off x="7625880" y="4782600"/>
              <a:ext cx="1373040" cy="149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Imagem 14" descr="GACOeste.bmp"/>
          <p:cNvPicPr/>
          <p:nvPr/>
        </p:nvPicPr>
        <p:blipFill>
          <a:blip r:embed="rId6"/>
          <a:stretch/>
        </p:blipFill>
        <p:spPr>
          <a:xfrm>
            <a:off x="4859280" y="1413000"/>
            <a:ext cx="1239840" cy="10713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18"/>
          <p:cNvSpPr/>
          <p:nvPr/>
        </p:nvSpPr>
        <p:spPr>
          <a:xfrm>
            <a:off x="179280" y="1844640"/>
            <a:ext cx="439272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ultivating private sector involvement and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ângulo 11"/>
          <p:cNvSpPr/>
          <p:nvPr/>
        </p:nvSpPr>
        <p:spPr>
          <a:xfrm>
            <a:off x="179280" y="2781360"/>
            <a:ext cx="576108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private promoters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-financing is until  60%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stimulate the private investment  with the  multiplication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ângulo 12"/>
          <p:cNvSpPr/>
          <p:nvPr/>
        </p:nvSpPr>
        <p:spPr>
          <a:xfrm>
            <a:off x="179280" y="3594240"/>
            <a:ext cx="576108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rategy with specified axi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only applied to private investment and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ângulo 13"/>
          <p:cNvSpPr/>
          <p:nvPr/>
        </p:nvSpPr>
        <p:spPr>
          <a:xfrm>
            <a:off x="179280" y="4386240"/>
            <a:ext cx="576108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moters proxim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nership with strong knowledge's about fisheries sector and the local 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chnical people have a proximity relation with promoters, to elucidate and facilitate the way to have a efficient and good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ângulo 14"/>
          <p:cNvSpPr/>
          <p:nvPr/>
        </p:nvSpPr>
        <p:spPr>
          <a:xfrm>
            <a:off x="179280" y="5877000"/>
            <a:ext cx="4572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hased open cal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“word of mouth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m 15" descr="Mapa_Enquadramento_Regional_GAC_Oeste.jpg"/>
          <p:cNvPicPr/>
          <p:nvPr/>
        </p:nvPicPr>
        <p:blipFill>
          <a:blip r:embed="rId7"/>
          <a:stretch/>
        </p:blipFill>
        <p:spPr>
          <a:xfrm>
            <a:off x="6372360" y="0"/>
            <a:ext cx="2771640" cy="2244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179280" y="6378480"/>
            <a:ext cx="410868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monica@adepe.pt</a:t>
            </a: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fr-BE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gac.oeste@adepe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2:24:08Z</dcterms:created>
  <dc:creator>Adepe</dc:creator>
  <dc:description/>
  <dc:language>en-US</dc:language>
  <cp:lastModifiedBy>SGS</cp:lastModifiedBy>
  <dcterms:modified xsi:type="dcterms:W3CDTF">2011-03-15T09:02:18Z</dcterms:modified>
  <cp:revision>14</cp:revision>
  <dc:subject/>
  <dc:title>Diapositivo 1</dc:title>
</cp:coreProperties>
</file>